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D52-E787-44A5-A7BF-5848B5DB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B52-3B89-42B9-8CA1-C935A9B8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A9B-D620-4692-9F00-60C58EDE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56F7-88D0-4AFB-B8B9-6F848783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A1B0-D674-425D-90DE-5D9594D0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523A-0A2E-4275-BBDB-839C9A3D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050-F1D3-49C7-A24C-3A9C55DD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7F9-9EE6-4517-A490-AB71D009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80FC-7431-42BB-A547-89C11F33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097-37D5-4D98-944B-3B68DE4A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5E3E-1CDF-457B-A7A3-68A45178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2931-1202-40C3-9225-FA92B1F3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9DA4-5F77-4ACF-AD93-1D223E770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xander Graham B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lex, Cody, Jason, and N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 Graham Bell  invented the telegraph in 187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52920" y="2970360"/>
            <a:ext cx="2427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born in 1847 in Edinburgh, Scotland and died in 1922 in Baddeck, Nova Scotia, in Can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2214720"/>
            <a:ext cx="40384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5:32:06Z</dcterms:created>
  <dc:creator>Montour School District</dc:creator>
  <dc:description/>
  <dc:language>en-US</dc:language>
  <cp:lastModifiedBy>Montour School District</cp:lastModifiedBy>
  <dcterms:modified xsi:type="dcterms:W3CDTF">2008-05-22T13:59:34Z</dcterms:modified>
  <cp:revision>3</cp:revision>
  <dc:subject/>
  <dc:title>Alexander Graham Bell </dc:title>
</cp:coreProperties>
</file>